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33D-55A5-4ECE-A994-54FE15A9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5BC-DBA7-4563-AAEC-DE60D8F0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238-E132-42A2-9B0A-9A2D56CE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8D8-4725-4074-B18F-3BFBDD30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D12-DF8A-467D-9316-F0C8B528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BA5-9359-457F-BAA5-C9B60F6B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908-F4F9-4438-9533-967E2734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026-5E66-4085-93B9-D1318360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0E6-2031-47CD-A975-2552AD58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79E-CC2C-4691-BA48-83CC465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B08-8601-4738-945C-C914CBEE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6F7-3FD8-486D-B20C-3E40749F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97E9-0AF2-4DBB-83E9-F03B80A52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tatistical Inferenc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460"/>
          <a:stretch/>
        </p:blipFill>
        <p:spPr>
          <a:xfrm>
            <a:off x="91440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457200"/>
            <a:ext cx="72388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086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838080"/>
            <a:ext cx="7391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16292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05720" y="57150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762120"/>
            <a:ext cx="66294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6477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2695"/>
          <a:stretch/>
        </p:blipFill>
        <p:spPr>
          <a:xfrm>
            <a:off x="1600200" y="838080"/>
            <a:ext cx="640080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80911" r="0" b="10264"/>
          <a:stretch/>
        </p:blipFill>
        <p:spPr>
          <a:xfrm>
            <a:off x="1600200" y="4114800"/>
            <a:ext cx="6400800" cy="60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343400"/>
            <a:ext cx="12956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624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06668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56252"/>
          <a:stretch/>
        </p:blipFill>
        <p:spPr>
          <a:xfrm>
            <a:off x="914400" y="762120"/>
            <a:ext cx="7467480" cy="272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62511" r="0" b="8336"/>
          <a:stretch/>
        </p:blipFill>
        <p:spPr>
          <a:xfrm>
            <a:off x="914400" y="3429000"/>
            <a:ext cx="7467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50332" r="0" b="12918"/>
          <a:stretch/>
        </p:blipFill>
        <p:spPr>
          <a:xfrm>
            <a:off x="1295280" y="2514600"/>
            <a:ext cx="685800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0" r="0" b="68219"/>
          <a:stretch/>
        </p:blipFill>
        <p:spPr>
          <a:xfrm>
            <a:off x="1295280" y="1219320"/>
            <a:ext cx="6858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255" r="0" b="12918"/>
          <a:stretch/>
        </p:blipFill>
        <p:spPr>
          <a:xfrm>
            <a:off x="1143000" y="4648320"/>
            <a:ext cx="678168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0332" r="0" b="12918"/>
          <a:stretch/>
        </p:blipFill>
        <p:spPr>
          <a:xfrm>
            <a:off x="1143000" y="220968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0" t="0" r="0" b="68219"/>
          <a:stretch/>
        </p:blipFill>
        <p:spPr>
          <a:xfrm>
            <a:off x="1143000" y="914400"/>
            <a:ext cx="6781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55301" r="0" b="10264"/>
          <a:stretch/>
        </p:blipFill>
        <p:spPr>
          <a:xfrm>
            <a:off x="1219320" y="99072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57955" r="0" b="10264"/>
          <a:stretch/>
        </p:blipFill>
        <p:spPr>
          <a:xfrm>
            <a:off x="1295280" y="3657600"/>
            <a:ext cx="6782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838080"/>
            <a:ext cx="7010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1066680" y="609480"/>
            <a:ext cx="7239240" cy="541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51880" y="91440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Incident:  The Sinking of the Tit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25836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1066680" y="13716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295280" y="1295280"/>
            <a:ext cx="6782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219320" y="114300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02:28:36Z</dcterms:modified>
  <cp:revision>44</cp:revision>
  <dc:subject/>
  <dc:title>PowerPoint Presentation</dc:title>
</cp:coreProperties>
</file>